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D15-FA25-4990-9029-7A624DDF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E24-3972-433A-BD80-5539CABE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503-7B1B-468E-8CCB-5EFC98E6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980-98E6-4F98-ABF2-1489D0BC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4CF-19F3-4EB2-A1ED-F501BE40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81A-D553-40AE-86DB-D2B8114E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159-B10F-46FF-855A-4E179EF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429-FAB0-44F8-9E31-A4BD31FB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354-50D7-40D4-8D1D-2944354E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A27-15F3-4B15-9BD2-C1A81A59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BDB4-FCB6-4FE9-A828-4D4E12B1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C009-3C16-4353-A4CB-4B337918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12B8-E337-4695-9E74-24F3F4E20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вентивномедицинска заштита у ванредним ситуациј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олошко оружје и способности ширења зара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9890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 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луенца, плућни антракс и куга, вари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о 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тифус, бациларна дизенте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нтагиозне бол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бовирусне инфекције, денга, бруцелоза, мала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олошко оружје и дужина инкубационог пери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1752480"/>
          <a:ext cx="8075520" cy="4525920"/>
        </p:xfrm>
        <a:graphic>
          <a:graphicData uri="http://schemas.openxmlformats.org/drawingml/2006/table">
            <a:tbl>
              <a:tblPr/>
              <a:tblGrid>
                <a:gridCol w="3960720"/>
                <a:gridCol w="411480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брзим дејством (оболевање у току 24 часа од примен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улотоксин, стафилококни токсин, микотокси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успореним дејством (оболевање након 2-7д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га, антракс, колера, туларемија, ден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шки агенси са брзим дејством (оболевање након 7дана од примен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и пегави тифус, бруцелоза,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иолошки агенси и дужина преживљавања у спољној сре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84464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тпорни (1-3 сата у ваздуху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инфлуен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лативно отпорни (до 24 сат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колере, арбовироза,, туларемије, бруцел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ома отпорни (више дана,недеља, годин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антракса, куге,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ачини примене биолошког оруж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лодари, муве, други биолошки ве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штита од биолошког нап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куп мера од којих се већина користи у превенцији и сузбијању заразних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лност - спровођење мера постекспозицио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ајважније мере у борби против биолошког оруж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познавање биолошког напада и постављање клиничко-епидемиолошке дијагн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текција и идентификација биолошког а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брињавање експонираних- оболелих и здрав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олошка деконтамин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познавање биолошког напада и постављање клиничко-епидемиолошке дијагн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олошко испитивање са циљем прикупљања релевантних података који ће помоћи у детекцији биолошког нап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рактеристике епидемије које указују на употребу биолошког оруж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гла и неочекивана појава великог броја оболелих, независна од претходне епидемиолошке ситу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а учесталост оболевања и/или умирања у кратком временском пери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овремена инфекција оболелих са два или више узроч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рактеристике епидемије које указују на употребу биолошког оруж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уобичајена географска појава неке зараз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ва сезовских обољења у време када се она обично не регистру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уобичајени пут преноса, манифестације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оболевања и угинуће 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и о контаминацији ваздуха, воде, х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рганизација и спровођење превентивномедицинске заштите од елементарних несрећа и катастроф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2331720"/>
            <a:ext cx="82296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за припр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за интер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анредна ситу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ненадна и неочекивана појава непогоде која може да угрози здравље и живот људи и да проузрокује материјалну штету већег об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венција и сузбијање заразних болести на угроженом подруч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чан санитарни над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чан епидемиолошки над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ре санитарног недзора н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доснабдева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хр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клањањемотпадних ма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ештајем љ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оштрен епидемиолошки надз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д цревним и респираторним боле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одневно извештавање о кретању заразних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оводити оне мере за које постоје инд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совна вакцинациј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асовна вакцинација није оправдана из више раз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имична заштита против само једног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ећај лажне сигурности код становништва, не предузимају се друге значајније м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гажује се здравствено особље потребно за важније зада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Ванредна ситуација</a:t>
            </a:r>
            <a:r>
              <a:rPr b="0" lang="sr-CS" sz="4400" spc="-1" strike="noStrike">
                <a:solidFill>
                  <a:srgbClr val="009999"/>
                </a:solidFill>
                <a:latin typeface="Arial"/>
              </a:rPr>
              <a:t> (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sr-CS" sz="4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пидемиолошком смислу, представљ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тање када на одређеном простор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ненада и за кратко време, дође д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акве угрожености здравља или жи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људи, чије се последице не мог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тклонити у пожељно време и 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тојећом организацијом здравстве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лу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могу настати у случај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НИХ катастроф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ица наглих климатских проме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бог глобалног загревања пла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ОВЕКОВЕ активности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ер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енамерне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ључујући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рористич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а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poplave6"/>
          <p:cNvPicPr/>
          <p:nvPr/>
        </p:nvPicPr>
        <p:blipFill>
          <a:blip r:embed="rId1"/>
          <a:stretch/>
        </p:blipFill>
        <p:spPr>
          <a:xfrm>
            <a:off x="8001000" y="2120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2"/>
          <a:stretch/>
        </p:blipFill>
        <p:spPr>
          <a:xfrm>
            <a:off x="6951600" y="3467160"/>
            <a:ext cx="1047960" cy="79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8229600" y="403200"/>
            <a:ext cx="914400" cy="8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pozari2"/>
          <p:cNvPicPr/>
          <p:nvPr/>
        </p:nvPicPr>
        <p:blipFill>
          <a:blip r:embed="rId4"/>
          <a:stretch/>
        </p:blipFill>
        <p:spPr>
          <a:xfrm>
            <a:off x="8191440" y="35053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5"/>
          <a:stretch/>
        </p:blipFill>
        <p:spPr>
          <a:xfrm>
            <a:off x="7858080" y="4575240"/>
            <a:ext cx="128592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С као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последица ПРИРОДН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КАТАСТРОФ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љотреси и појава цунам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ирање вулка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надо, орка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лаве, одрони, клизиш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стремне врућине и хладноћа, снежне мећаве и лави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ша, пожари, удари грома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1" descr="nesreca"/>
          <p:cNvPicPr/>
          <p:nvPr/>
        </p:nvPicPr>
        <p:blipFill>
          <a:blip r:embed="rId1"/>
          <a:stretch/>
        </p:blipFill>
        <p:spPr>
          <a:xfrm>
            <a:off x="5495760" y="4235400"/>
            <a:ext cx="234324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poyari3"/>
          <p:cNvPicPr/>
          <p:nvPr/>
        </p:nvPicPr>
        <p:blipFill>
          <a:blip r:embed="rId2"/>
          <a:stretch/>
        </p:blipFill>
        <p:spPr>
          <a:xfrm>
            <a:off x="7934400" y="274680"/>
            <a:ext cx="120960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3"/>
          <a:stretch/>
        </p:blipFill>
        <p:spPr>
          <a:xfrm>
            <a:off x="5597640" y="1928880"/>
            <a:ext cx="2139840" cy="1531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С као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последица ЧОВЕКОВ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активно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лошки акциде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епидемије, биотерориз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емијски акциде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клеарни акциден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обраћајне   несреће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naf mrlja3"/>
          <p:cNvPicPr/>
          <p:nvPr/>
        </p:nvPicPr>
        <p:blipFill>
          <a:blip r:embed="rId4"/>
          <a:stretch/>
        </p:blipFill>
        <p:spPr>
          <a:xfrm>
            <a:off x="6934320" y="3048120"/>
            <a:ext cx="1981080" cy="156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"/>
          <p:cNvPicPr/>
          <p:nvPr/>
        </p:nvPicPr>
        <p:blipFill>
          <a:blip r:embed="rId5"/>
          <a:stretch/>
        </p:blipFill>
        <p:spPr>
          <a:xfrm>
            <a:off x="7648560" y="4470480"/>
            <a:ext cx="1495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Основне карактеристике вс су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гађају велики број љ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азивају велика оштећењ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тоји потреба за помоћ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ајчешће говори о масовним несрећ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ли катастроф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Масовне несрећ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 разликуј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зроку настан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љотрес, поплава, експлозивне материј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пидемије, ратна катастроф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странству које захватај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жа или шира територија или 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рожавај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нзите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бим материјалног разарања и број жрта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анредни догађаји према уз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родне, елементарне не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огоде које су последица људске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4" descr="hladnoca"/>
          <p:cNvPicPr/>
          <p:nvPr/>
        </p:nvPicPr>
        <p:blipFill>
          <a:blip r:embed="rId1"/>
          <a:stretch/>
        </p:blipFill>
        <p:spPr>
          <a:xfrm>
            <a:off x="947880" y="1600200"/>
            <a:ext cx="3057480" cy="218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Последице ванредних ситуациј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кид рада критичних инфра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роженост живог св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изик по здравље великог броја људи, опстанак животињ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љног омотача, тј. хране животињског и биљног порекл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"/>
          <p:cNvPicPr/>
          <p:nvPr/>
        </p:nvPicPr>
        <p:blipFill>
          <a:blip r:embed="rId2"/>
          <a:stretch/>
        </p:blipFill>
        <p:spPr>
          <a:xfrm>
            <a:off x="3890880" y="269388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hem udes2"/>
          <p:cNvPicPr/>
          <p:nvPr/>
        </p:nvPicPr>
        <p:blipFill>
          <a:blip r:embed="rId3"/>
          <a:stretch/>
        </p:blipFill>
        <p:spPr>
          <a:xfrm>
            <a:off x="5477040" y="1798560"/>
            <a:ext cx="23810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сле катастрофалног догађаја долаз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о нагле и драстичне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проме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жив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себан значај им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горшање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услова станов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ремећено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снабдевање водо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иће и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животним намирница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горшање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санитарних прил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физичка и психичка </a:t>
            </a:r>
            <a:r>
              <a:rPr b="0" lang="sr-Latn-CS" sz="4000" spc="-1" strike="noStrike">
                <a:solidFill>
                  <a:srgbClr val="009999"/>
                </a:solidFill>
                <a:latin typeface="Arial"/>
              </a:rPr>
              <a:t>исцрпљенос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рмалне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активности у праћењу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узбијању заразних боле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ома отежане што додатно отежава и онак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горшану епидемиолошк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туацију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ње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ови живота веома погодују настанку и ширењ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разних болести, важно 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нтензивира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пидемиолошко извиђањ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матрање тере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олико 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ребно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пидемиолош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спитивањ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Заштита здравља у вс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тављ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ужетак свих облика заштите здравља који с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њују у свакодневном раду. Непосредно нако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тастрофе предузимају се најпре тз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ургентне мер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вакуација и смештај угроженог становништв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збеђење хигијенски исправне воде за пиће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хран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налажење и сахрањивање умрлих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рба против психичких поремећај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овремено, стално и правилно информисањ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новниш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осл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их ургентних мера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пров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авка оштећених стамбени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јека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нација водних објекат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нализациј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нитација уже окол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свим вс формирају се посебни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штабови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ковод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ординирај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меравају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локупан рад на отклањању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носно умањивању последица катастроф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исно од природа несреће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у саставу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таба налазе се различити профили стручњак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ли је увек поред представника друштвен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једнице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обавезно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сутан и лекар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пецијалиста</a:t>
            </a:r>
            <a:r>
              <a:rPr b="0" lang="ru-RU" sz="2600" spc="-1" strike="noStrike">
                <a:solidFill>
                  <a:srgbClr val="009999"/>
                </a:solidFill>
                <a:latin typeface="Arial"/>
              </a:rPr>
              <a:t> епидемиологије и хигијене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sr-Latn-CS" sz="5400" spc="-1" strike="noStrike">
                <a:solidFill>
                  <a:srgbClr val="009999"/>
                </a:solidFill>
                <a:latin typeface="Arial"/>
              </a:rPr>
              <a:t>Организација</a:t>
            </a: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sr-Latn-CS" sz="5400" spc="-1" strike="noStrike">
                <a:solidFill>
                  <a:srgbClr val="009999"/>
                </a:solidFill>
                <a:latin typeface="Arial"/>
              </a:rPr>
              <a:t>ревенциј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sr-CS" sz="5400" spc="-1" strike="noStrike">
                <a:solidFill>
                  <a:srgbClr val="009999"/>
                </a:solidFill>
                <a:latin typeface="Arial"/>
              </a:rPr>
              <a:t>ц</a:t>
            </a:r>
            <a:r>
              <a:rPr b="0" lang="sr-Latn-CS" sz="5400" spc="-1" strike="noStrike">
                <a:solidFill>
                  <a:srgbClr val="009999"/>
                </a:solidFill>
                <a:latin typeface="Arial"/>
              </a:rPr>
              <a:t>ревних инфекциј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Епидемиолошка ситуација - </a:t>
            </a:r>
            <a:r>
              <a:rPr b="0" lang="sr-CS" sz="3200" spc="-1" strike="noStrike">
                <a:solidFill>
                  <a:srgbClr val="009999"/>
                </a:solidFill>
                <a:latin typeface="Arial"/>
              </a:rPr>
              <a:t>земљот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љотрес који је погодио Црну Го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чито њен приобални део, проузрокова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је непроцењиву шт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одручју Херцег Новог, Котора, Будв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а и Улциња погинуло је 96, а теже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кше повређено преко 1000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високом % је уништен, порушен или поста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употребљив стамбени фонд овог подруч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дали су привредни објекти, хотели, а јако с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штећени и здравствени објек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ништени су путеви, као и део железничке пруг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штећени су градски водоводи, извори који с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ојали пресушили су, док је вода избијал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мо где је никада раније није би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кидана је електрична мреж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68360" y="260280"/>
          <a:ext cx="8229600" cy="587844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138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ма подацима који се односе на обавезну пријаву цревних зараз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ест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претходној календарској години у Црној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строване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едеће заразне болест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с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ој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лел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/10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atitis viro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senteria-Enterocolit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xiinfectio alimentar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hus abdominalis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typhus A,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omyelit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епогоде према интензит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а елементарна непогода мањих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огоде већих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ментарне несре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лементарне катастроф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и проблеми у новонасталој ситуацији чине 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оји реална опасност од појаве и ширењ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ревних заразних болести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штећени градски водоводи, извори пресушил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биј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где је никада раније није би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ништен, порушен или постао неупотребљи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мбени фонд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кидана електрична мреж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дали здравствени објекти, привредн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отели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ништени путеви, део железничке пруге 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оштећење и неупотребљивос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ликог броја стамбених зграда може утицати 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јаву и ширење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ржавање чистоће тела, одеће 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збеђивање услова да се животне намерниц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штите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престанак рада водовода мож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принети појави и ширењу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На који начин оштећење и неупотребљивос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канализационе мреже  може допринети појав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ширењу цревних инфекциј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отежано снабдевање уз тешкоће 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преми намирница (непроходни путев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штећење електричне мреже, срушени објек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набдевања, ресторани итд.) утиче на појаву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рење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је новонасталом ситуациј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гођена здравствена заштита становништ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роженог подручја, нарочито у смисл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венције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На који начин прекид нормалног функционисањ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комуналних служби може допринети појав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ширењу цревних инфекциј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е цревне болести се могу превенира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акцинацијом у оваквим приликам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је новонасталом ситуациј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гођена здравствена заштита становништ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роженог подручја, нарочито у смисл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венције цревних инфекциј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На који начин прекид нормалног функционисањ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комуналних служби може допринети појав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ширењу цревних инфекциј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е цревне болести се могу превенира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акцинацијом у оваквим приликам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колико би вакцинацијом против трбушног тифус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гао да се смањи ризик од појаве болести, кога б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л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требно вакциниса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роженом подручју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 запослена на чишћењу канализациј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птичких јама, уклањању смећа и остали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падних материја из насељ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 која живе у заједничком домаћинству с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ицоношом трбушног тиф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 према епидемиолошким индикациј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ја лица, према епидемиолошким индикацијам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лежу вакцинацији против трбушног тифус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ца која су услед природе посла или посебни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ова рада на својим радним местима излож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асности од зара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ји начин се апликује вакцина против трбушно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ифуса</a:t>
            </a:r>
            <a:r>
              <a:rPr b="0" lang="ru-RU" sz="26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вањем две дозе вакцине у размаку који не см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ити краћи од 15 дана ни дужи од три месе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личину дозе одређује произвођач вакц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акцина се апликује дубоко поткожно на задњој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ани надлакти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ва ревакцинација годину дана после, а даљ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аке три год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ште санитарно-хигијенске мер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збеђивање хигијенски исправне хране и вод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 пић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игијенска диспозиција отпадних мате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збеђење водотока од загађив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ржавање личне хигијене (прање руку) ит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лни надзор над клицонош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акцинопрофилакс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ја заразне болести поприма размере елементарне несреће, катастрофе уколико се ради о епидем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шког заразног обољења са високим леталит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у карактерише масовност и експлоз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ије су економске и друштвене последице вел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у здравствена служба није  у стању да сузбије, постоји опасност од њеног ширења, чак и ван граница зем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важније карактеристике патогеног микроорганизма или његовог продукта (токс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ано изазивање жељеног еф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а контагио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ање више начина и путева заража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ла инфективна д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о кратак инкубациони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важније карактеристике патогеног микроорганизма или његовог продукта (токс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а и једноставна производ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абилност приликом производње, лагеровања и при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ежана детекција и идентифик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ћност заштите сопственог љу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рсте биолошких аген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00000" y="1397160"/>
          <a:ext cx="7488360" cy="4786200"/>
        </p:xfrm>
        <a:graphic>
          <a:graphicData uri="http://schemas.openxmlformats.org/drawingml/2006/table">
            <a:tbl>
              <a:tblPr/>
              <a:tblGrid>
                <a:gridCol w="2087640"/>
                <a:gridCol w="540072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тер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illus anthrac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р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bricele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уцелоз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Yersinia pest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г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Vibrio cholerae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р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Francisella tularensis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ларем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Burkholderia malle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ус-сакаг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Salmonella typh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бушни тифу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Shigella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циларна дизентериј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 вариоле(велике богиње-вариола вера, вируси хеморагијских грозница(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ola, Marburg,Lassa, denga, Hantaan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вируси енцефалитиса, хепатитиса, жуте грозн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ке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iella burnetii(Q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озни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Rickettsia prowazeki(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гави тифу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очници рикецијалних боги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з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змодијуми(малариј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љив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cidioides immitis, Histoplasma capsulat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ни, продукти микроорганиза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улотоксин, стафилококни ентеротоксин, афлаток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чекивани ефекат биолошког оружја на љу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8360" y="1989000"/>
          <a:ext cx="8229600" cy="40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са леталним дејством, агенси који узрокују смртност преко 25% обилел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ућни антракс, плућна куга, хеморагичне грозни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за онеспособљавање, они који изазивају масовно обољење али са ниским леталитетом-1-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лмонелозе, колера, бациларна дизенте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и за узнемиравање, узрокују лакшу клиничку слику, обољење кратко тра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вање стафилококним ентеротоксин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6:00:07Z</dcterms:created>
  <dc:creator> </dc:creator>
  <dc:description/>
  <dc:language>en-US</dc:language>
  <cp:lastModifiedBy> </cp:lastModifiedBy>
  <dcterms:modified xsi:type="dcterms:W3CDTF">2016-12-29T12:43:05Z</dcterms:modified>
  <cp:revision>22</cp:revision>
  <dc:subject/>
  <dc:title>Slide 1</dc:title>
</cp:coreProperties>
</file>